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CB57A-4F6B-42EE-9908-E22EA96764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90BAB-8BA3-499A-BC47-8AB8A8B6CF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047C3-8AE9-404B-8954-D41A829B44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C771E-9DA2-424B-A24C-4839518D4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A53BB-CED5-4771-8C14-866A829A13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5BBBD-91AE-43C4-9088-D1B6DD02E4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50C28-094D-4ABF-B8A2-23CFA4BD23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A3053-F68E-4E63-934D-3A4F82E167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D69A8-CC11-4E2A-BF05-E56E0467BB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C6DEE-7701-40DA-96A3-E45D95040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36FC4-2D87-4C5A-B9D5-AD3A65DA63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46335-D42C-4069-965F-CE7E6B2486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8E96F-0A1D-46DA-80AD-684CCE301A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5C79E-260E-4ED8-A540-C3E70EF03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1B8D1-354F-4B44-BFE8-85E9ED8863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3B67B-9D21-452A-AB25-6BED14DDF1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660ED-90E1-455F-9F13-6127AF06A8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 about the term Minds-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453A4-D416-402A-B902-C834B1F45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5E793-036C-47EC-A145-58A31B1CC4E1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The Mathematical Processes are the actions of doing mathematics. These are presented in the Revised </a:t>
            </a:r>
            <a:r>
              <a:rPr b="0" lang="en-CA" sz="1200" spc="-1" strike="noStrike" u="sng">
                <a:solidFill>
                  <a:srgbClr val="000000"/>
                </a:solidFill>
                <a:uFillTx/>
                <a:latin typeface="Arial"/>
              </a:rPr>
              <a:t>Mathematics Curriculum of 2005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. &lt;Name them out loud&gt; These processes </a:t>
            </a:r>
            <a:r>
              <a:rPr b="0" lang="en-CA" sz="1200" spc="-1" strike="noStrike" u="sng">
                <a:solidFill>
                  <a:srgbClr val="000000"/>
                </a:solidFill>
                <a:uFillTx/>
                <a:latin typeface="Arial"/>
              </a:rPr>
              <a:t>form the primary gear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of the metaph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The interconnected processes of Representing, Reflecting, Reasoning and Proving, Connecting and Selecting Tools and Computational Strategies </a:t>
            </a:r>
            <a:r>
              <a:rPr b="0" lang="en-CA" sz="1200" spc="-1" strike="noStrike" u="sng">
                <a:solidFill>
                  <a:srgbClr val="000000"/>
                </a:solidFill>
                <a:uFillTx/>
                <a:latin typeface="Arial"/>
              </a:rPr>
              <a:t>make up disk of the gear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 u="sng">
                <a:solidFill>
                  <a:srgbClr val="000000"/>
                </a:solidFill>
                <a:uFillTx/>
                <a:latin typeface="Arial"/>
              </a:rPr>
              <a:t>Communicating and Problem Solving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are closely linked to each of the other 5 proces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It is essential that our students are capable of communicating their mathematics therefore it is essential that they are given opportunities to practice.  Communicating is integral in each </a:t>
            </a:r>
            <a:r>
              <a:rPr b="0" lang="en-CA" sz="1200" spc="-1" strike="noStrike" u="sng">
                <a:solidFill>
                  <a:srgbClr val="000000"/>
                </a:solidFill>
                <a:uFillTx/>
                <a:latin typeface="Arial"/>
              </a:rPr>
              <a:t>of the other processes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roblem Solving is </a:t>
            </a:r>
            <a:r>
              <a:rPr b="0" lang="en-CA" sz="1200" spc="-1" strike="noStrike" u="sng">
                <a:solidFill>
                  <a:srgbClr val="000000"/>
                </a:solidFill>
                <a:uFillTx/>
                <a:latin typeface="Arial"/>
              </a:rPr>
              <a:t>the driver of all mathematics.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 The solution of rich mathematics questions requires the application of skills and understanding of concepts and incorporates some or all of the mathematical processe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 u="sng">
                <a:solidFill>
                  <a:srgbClr val="000000"/>
                </a:solidFill>
                <a:uFillTx/>
                <a:latin typeface="Arial"/>
              </a:rPr>
              <a:t>&lt;&lt;Click to next slide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50874-7119-4B44-A598-2F0C2E72D9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823CE-CC0A-4873-97EB-429DD19B9D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B19D6-669C-4347-9476-799550CC0F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98E48-392E-498B-8DEC-175EA026D8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341A5-307A-40D0-BC0A-C2A0D268B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9145B-DB90-41C4-BEB4-0DF03AE74A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D9E56-E3F9-4645-8FFB-6FDC1BBD4D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EC71A-0A8F-471A-815C-8B2FD8F1B7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9CDFF-9991-4A76-85B4-F0563EA7F0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83D15-B773-4F00-AC7C-5157E4831D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46460-51E1-4757-B6C6-7AB0200142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D2246-7CD9-4492-A117-B5D921755F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799F0-2226-4D38-83A2-E601FF1EF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400C3-3081-45E6-85C5-A8BE1C583D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C6E7C-88C2-4DB3-A904-32AD36ADCC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C99E1-F285-47B9-A379-A7AB251848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5EEBD-0CF9-4C3E-AE01-299A678062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E99DB-CA9C-4F17-B239-F0506C7761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8E590-F5B4-486D-BF52-B3C7D8991E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BC8F7-9463-4428-8ABD-3FB9C135FB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86351-2070-4A36-84AD-99E27C1AD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1354C-0CA7-4C9B-863D-0F7A26E285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868A8-35A4-4C57-B2D2-1DA4F7CBFA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C09A4-0C15-49B3-B362-6AC2C69D20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E0F02-C1B7-46A6-AE23-4DD57885D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23E59-0E09-47E8-86D8-3139B3CB5E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A508C-3CEF-4273-8D0C-FAC5C567A3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493C0-C898-4594-A558-44DC3B1929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AEBF8-10B4-4A95-9508-5F32151BCE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213D5-2B01-461F-AAFC-FBDEC3DCF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90D3D-1CE3-4587-B509-45272CC066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920FC-39C0-49C5-8D28-8BF9443CDE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27110-E482-4B70-8AC7-5442BCA987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be what other representation  ( or maybe oth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EFDFD-0DDB-4009-9412-B79C606224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E807D-399A-4D73-AA6A-155F6F474C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9163C-EEB5-45C5-BB77-C8A209CD5C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B9EE4-9A53-4101-B04D-CA6062A5DF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14B24-3762-4D8B-B24A-41F0BE0443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F3242-70E2-489E-9459-E4B3B49418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256E1-9A42-4497-8D8C-F51CB9770F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ACBB8-AEC5-4C45-93FE-8AA8D0169E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BC2FB-56AE-44C8-A7C9-D2E55ABFC2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0DD14-0E38-4C45-BD73-1BD1DB4DC4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CC8C-CD89-46D8-822E-D6CB7EF67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9C08-8317-48F9-8720-F66C02823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FA70-60BB-4C36-8391-3F22C78AC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B92E-3AAC-415A-84AF-8E7E2837B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891CB-DA7A-4F15-A93C-044F3889C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BF863-FBD0-4B71-B16E-751F8F63F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C675F-A1F0-4C35-A1EF-6B4072162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5D4FE-F3DB-4F61-B424-18499351D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55132-3291-4EF4-AF44-B5E882A63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62C55-15F3-457B-8840-D4CE74D5C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770BD-8C55-42E5-8C41-2BB25783E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8A40-370A-4BEF-9A6D-AF5518700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0AB29-FF7D-4D60-9CFE-88806B302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BEFA1-862C-432F-857C-C802B7C28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E5748-C3F5-4A31-9DD1-5C6DF89F6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98071-3D7C-45CF-9981-31A8ADB9B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7F751-AFED-4373-8CFC-8BBB78318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EBEF-2050-45CA-865E-50CDD7280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49EB-2606-4651-B577-07272E4B7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C972-4566-45CF-9CE1-2E9676C37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02C3-BD60-48F6-99CE-7F9C20CFB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B50B-1DFC-4226-8DA0-EF90940D0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93DB-B1E3-4093-A068-180DD83B3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0568-07D7-466E-8E57-A4264F02F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B13A1-CCB4-40BC-A2C1-C220046D51B1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5" name="Picture 12" descr=""/>
          <p:cNvPicPr/>
          <p:nvPr/>
        </p:nvPicPr>
        <p:blipFill>
          <a:blip r:embed="rId2"/>
          <a:stretch/>
        </p:blipFill>
        <p:spPr>
          <a:xfrm>
            <a:off x="7343640" y="-27000"/>
            <a:ext cx="1441440" cy="11811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7" descr="Untitled-1"/>
          <p:cNvPicPr/>
          <p:nvPr/>
        </p:nvPicPr>
        <p:blipFill>
          <a:blip r:embed="rId3"/>
          <a:stretch/>
        </p:blipFill>
        <p:spPr>
          <a:xfrm>
            <a:off x="380880" y="380880"/>
            <a:ext cx="6853320" cy="15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864A3-A14B-4A83-A537-B0BF03F91F38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"/>
          <p:cNvPicPr/>
          <p:nvPr/>
        </p:nvPicPr>
        <p:blipFill>
          <a:blip r:embed="rId1"/>
          <a:stretch/>
        </p:blipFill>
        <p:spPr>
          <a:xfrm>
            <a:off x="1763640" y="838080"/>
            <a:ext cx="5545080" cy="45468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1"/>
          <p:cNvSpPr/>
          <p:nvPr/>
        </p:nvSpPr>
        <p:spPr>
          <a:xfrm>
            <a:off x="431640" y="533700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Book Antiqua"/>
              </a:rPr>
              <a:t>Plenary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ould the student be able to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 respond to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1066680" y="2895480"/>
            <a:ext cx="74170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the 100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term of a linear pattern is relatively small, then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B78D4-B031-4D9A-9072-A5D01E07C2F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Teacher strugg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1066680" y="2895480"/>
            <a:ext cx="741708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y experience is that setting lesson goals beyond reciting an expectation or simply using a topic name is a struggle for teacher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9EEEE-839E-449D-A294-64308AF1090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or exampl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990720" y="2133720"/>
            <a:ext cx="7416720" cy="58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stead of reciting this curriculum expectation as a goal: solve problems involving percents expressed to .. whole-number percents greater than 100%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5D5B2-C34E-43E1-8230-263C398EEAB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or exampl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990720" y="2209680"/>
            <a:ext cx="741672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t could be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one number is less than 100% of another, the second number is more than 100% of the first. 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7FFF6-A74A-43D3-8804-ACD5198F98C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or exampl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1066680" y="2286000"/>
            <a:ext cx="74170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t could be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a percent is greater than 100%, its decimal equivalent is greater than 1. 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3A0B2-F411-4342-B7AA-8706A149DF0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or exampl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1117440" y="1905120"/>
            <a:ext cx="7417080" cy="61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t could be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ame strategies are used to solve problems involving percents greater than 100% as problems involving percents less than 100%. OR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A8979-4FED-4CAF-8274-DBD6BF80ACE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y you want to do this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1066680" y="2895480"/>
            <a:ext cx="74170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you decide on the goal, you are more likely to know what questions to ask, what activity to use,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38619-AD4C-4D8A-B0DE-A76845AE38A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3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Make it you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1066680" y="2895480"/>
            <a:ext cx="741708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en if you get a lesson from a valued resource, you have to make your OWN decision about what to pull out of that less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693A4-F3B1-445F-83C5-AB05014C1E8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or exampl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1066680" y="2895480"/>
            <a:ext cx="741708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t’s look at this lesson from Grade 7 TIP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9089D-C6B2-4D71-B84C-BDB7847FAB6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1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AA4A2-2ECC-4C40-B14A-882528CB7CD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Picture 1.png"/>
          <p:cNvPicPr/>
          <p:nvPr/>
        </p:nvPicPr>
        <p:blipFill>
          <a:blip r:embed="rId1"/>
          <a:stretch/>
        </p:blipFill>
        <p:spPr>
          <a:xfrm>
            <a:off x="0" y="1636560"/>
            <a:ext cx="9144000" cy="35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What’s important about the Math we Teach?</a:t>
            </a:r>
            <a:br>
              <a:rPr sz="4400"/>
            </a:b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 Focus on Big Idea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4495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ian Sm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ww.onetwoinfinity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1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E740B-5A9F-4422-868D-EAA58D4A04D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Picture 2.png"/>
          <p:cNvPicPr/>
          <p:nvPr/>
        </p:nvPicPr>
        <p:blipFill>
          <a:blip r:embed="rId1"/>
          <a:stretch/>
        </p:blipFill>
        <p:spPr>
          <a:xfrm>
            <a:off x="0" y="1969920"/>
            <a:ext cx="9144000" cy="291816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3"/>
          <p:cNvSpPr/>
          <p:nvPr/>
        </p:nvSpPr>
        <p:spPr>
          <a:xfrm>
            <a:off x="2057400" y="3733920"/>
            <a:ext cx="5943600" cy="304560"/>
          </a:xfrm>
          <a:prstGeom prst="rect">
            <a:avLst/>
          </a:prstGeom>
          <a:solidFill>
            <a:srgbClr val="ffff00">
              <a:alpha val="19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1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5C898-8F71-4813-8555-38B9E376A60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Picture 3.png"/>
          <p:cNvPicPr/>
          <p:nvPr/>
        </p:nvPicPr>
        <p:blipFill>
          <a:blip r:embed="rId1"/>
          <a:stretch/>
        </p:blipFill>
        <p:spPr>
          <a:xfrm>
            <a:off x="0" y="1209600"/>
            <a:ext cx="9144000" cy="443880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3"/>
          <p:cNvSpPr/>
          <p:nvPr/>
        </p:nvSpPr>
        <p:spPr>
          <a:xfrm>
            <a:off x="4419720" y="1905120"/>
            <a:ext cx="4343400" cy="304560"/>
          </a:xfrm>
          <a:prstGeom prst="rect">
            <a:avLst/>
          </a:prstGeom>
          <a:solidFill>
            <a:srgbClr val="ffff00">
              <a:alpha val="21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4648320" y="2666880"/>
            <a:ext cx="3429000" cy="304920"/>
          </a:xfrm>
          <a:prstGeom prst="rect">
            <a:avLst/>
          </a:prstGeom>
          <a:solidFill>
            <a:srgbClr val="ffff00">
              <a:alpha val="25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6324480" y="2895480"/>
            <a:ext cx="2819520" cy="381240"/>
          </a:xfrm>
          <a:prstGeom prst="rect">
            <a:avLst/>
          </a:prstGeom>
          <a:solidFill>
            <a:srgbClr val="ffff00">
              <a:alpha val="25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2209680" y="3124080"/>
            <a:ext cx="3505320" cy="381240"/>
          </a:xfrm>
          <a:prstGeom prst="rect">
            <a:avLst/>
          </a:prstGeom>
          <a:solidFill>
            <a:srgbClr val="ffff00">
              <a:alpha val="25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1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165C9-5A0F-406C-BE02-9069070D260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" descr="Picture 4.png"/>
          <p:cNvPicPr/>
          <p:nvPr/>
        </p:nvPicPr>
        <p:blipFill>
          <a:blip r:embed="rId1"/>
          <a:stretch/>
        </p:blipFill>
        <p:spPr>
          <a:xfrm>
            <a:off x="0" y="1415880"/>
            <a:ext cx="9144000" cy="40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1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49FBC-3130-46BB-AF3B-CFDFC59C3A2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Picture 5.png"/>
          <p:cNvPicPr/>
          <p:nvPr/>
        </p:nvPicPr>
        <p:blipFill>
          <a:blip r:embed="rId1"/>
          <a:stretch/>
        </p:blipFill>
        <p:spPr>
          <a:xfrm>
            <a:off x="0" y="1255680"/>
            <a:ext cx="9144000" cy="43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1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74AAF-99F8-4FE9-8E50-C370A88D84C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Picture 6.png"/>
          <p:cNvPicPr/>
          <p:nvPr/>
        </p:nvPicPr>
        <p:blipFill>
          <a:blip r:embed="rId1"/>
          <a:stretch/>
        </p:blipFill>
        <p:spPr>
          <a:xfrm>
            <a:off x="0" y="1906560"/>
            <a:ext cx="9144000" cy="30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Mayb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1066680" y="1905120"/>
            <a:ext cx="7417080" cy="61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thi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way someone figures out terms 3, 4, 5, and 6 might be very different from the way that person figures out term 100 becaus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AB63F-271C-4156-B1DA-37E1E87F357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Big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1219320" y="1905120"/>
            <a:ext cx="741672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andy Charles: A Big Idea is a statement of an idea that is central to the learning of mathematics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EFFBD-3C9E-44C2-8148-102EAD04BF7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Big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1219320" y="1905120"/>
            <a:ext cx="741672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rian Small: one that links numerous mathematical understandings into a coherent whol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26629-4246-496D-95D8-8AF35769119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8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Big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1219320" y="1905120"/>
            <a:ext cx="7416720" cy="58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t is not a topic name nor is it an overall expectation. It is a statement (sentence) that a student could walk away with that makes a fundamental mathematical connecti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03A42-59BF-4B10-BADF-97CD931C195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Big Ideas for CAMPPP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1219320" y="1905120"/>
            <a:ext cx="741672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ic reasoning is a process of describing and analyzing (e.g. predicting) generalized mathematical relationships and change using words and symbol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FB4D1-4943-4022-B723-6EB0A2C31A8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2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Minds-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042920" y="2014560"/>
            <a:ext cx="7416720" cy="58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third term in a linear growing pattern is negativ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30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term is 20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might the 20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term b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209EE-3599-4B85-A3F8-BB8A57E0285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It’s not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1219320" y="1905120"/>
            <a:ext cx="741672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t is possible that it may, on first blush, sound like a definition, but it’s not. It provides a new lens in which to embed the learnin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830E8-B27E-4A0F-B3CB-A070C27AD06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gear"/>
          <p:cNvPicPr/>
          <p:nvPr/>
        </p:nvPicPr>
        <p:blipFill>
          <a:blip r:embed="rId1"/>
          <a:srcRect l="10754" t="22727" r="24492" b="27194"/>
          <a:stretch/>
        </p:blipFill>
        <p:spPr>
          <a:xfrm>
            <a:off x="3132000" y="1052640"/>
            <a:ext cx="5554800" cy="556236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3"/>
          <p:cNvSpPr/>
          <p:nvPr/>
        </p:nvSpPr>
        <p:spPr>
          <a:xfrm>
            <a:off x="0" y="1614600"/>
            <a:ext cx="502920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9900"/>
                </a:solidFill>
                <a:latin typeface="Arial"/>
              </a:rPr>
              <a:t>Represen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cc0000"/>
                </a:solidFill>
                <a:latin typeface="Arial"/>
              </a:rPr>
              <a:t>Reflec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ff"/>
                </a:solidFill>
                <a:latin typeface="Arial"/>
              </a:rPr>
              <a:t>Reasoning and Pro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cc00"/>
                </a:solidFill>
                <a:latin typeface="Arial"/>
              </a:rPr>
              <a:t>Connec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8080"/>
                </a:solidFill>
                <a:latin typeface="Arial"/>
              </a:rPr>
              <a:t>Selecting Tools and Computational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WordArt 4"/>
          <p:cNvSpPr txBox="1"/>
          <p:nvPr/>
        </p:nvSpPr>
        <p:spPr>
          <a:xfrm rot="18202800">
            <a:off x="3752640" y="3393720"/>
            <a:ext cx="1028520" cy="219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presenting</a:t>
            </a:r>
            <a:endParaRPr b="0" lang="en-US" sz="16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2" name="WordArt 5"/>
          <p:cNvSpPr txBox="1"/>
          <p:nvPr/>
        </p:nvSpPr>
        <p:spPr>
          <a:xfrm rot="3565800">
            <a:off x="6898680" y="2231640"/>
            <a:ext cx="819000" cy="219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flecting</a:t>
            </a:r>
            <a:endParaRPr b="0" lang="en-US" sz="16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3" name="WordArt 6"/>
          <p:cNvSpPr txBox="1"/>
          <p:nvPr/>
        </p:nvSpPr>
        <p:spPr>
          <a:xfrm rot="20286600">
            <a:off x="5117760" y="1963440"/>
            <a:ext cx="1655640" cy="387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asoning and Proving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4" name="WordArt 7"/>
          <p:cNvSpPr txBox="1"/>
          <p:nvPr/>
        </p:nvSpPr>
        <p:spPr>
          <a:xfrm rot="19335600">
            <a:off x="5619600" y="3586320"/>
            <a:ext cx="1981440" cy="38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lecting Tools and 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putational Strategies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5" name="WordArt 8"/>
          <p:cNvSpPr txBox="1"/>
          <p:nvPr/>
        </p:nvSpPr>
        <p:spPr>
          <a:xfrm rot="576000">
            <a:off x="4133880" y="4495320"/>
            <a:ext cx="104760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nnecting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6" name="Text Box 9"/>
          <p:cNvSpPr/>
          <p:nvPr/>
        </p:nvSpPr>
        <p:spPr>
          <a:xfrm>
            <a:off x="-57240" y="1965240"/>
            <a:ext cx="38102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Communic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Problem Sol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WordArt 10"/>
          <p:cNvSpPr txBox="1"/>
          <p:nvPr/>
        </p:nvSpPr>
        <p:spPr>
          <a:xfrm rot="19346400">
            <a:off x="5314680" y="3166560"/>
            <a:ext cx="89532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Communicat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88" name="WordArt 11"/>
          <p:cNvSpPr txBox="1"/>
          <p:nvPr/>
        </p:nvSpPr>
        <p:spPr>
          <a:xfrm rot="2179800">
            <a:off x="6629040" y="5486040"/>
            <a:ext cx="1409760" cy="266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Problem Solv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Mathematical Processe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1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000"/>
                            </p:stCondLst>
                            <p:childTnLst>
                              <p:par>
                                <p:cTn id="3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1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3000"/>
                            </p:stCondLst>
                            <p:childTnLst>
                              <p:par>
                                <p:cTn id="3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10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4000"/>
                            </p:stCondLst>
                            <p:childTnLst>
                              <p:par>
                                <p:cTn id="3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10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3.3526E-006 L 0.30642 0.22196 E">
                                      <p:cBhvr>
                                        <p:cTn id="333" dur="2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4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3.75723E-006 L 0.67431 -0.04 E">
                                      <p:cBhvr>
                                        <p:cTn id="335" dur="2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6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4.16185E-006 L 0.37552 -0.17989 E">
                                      <p:cBhvr>
                                        <p:cTn id="337" dur="2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8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4.56647E-006 L 0.37621 0.07976 E">
                                      <p:cBhvr>
                                        <p:cTn id="339" dur="2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0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2.31214E-006 L 0.49705 -0.20879 E">
                                      <p:cBhvr>
                                        <p:cTn id="341" dur="20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3" dur="2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34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5" dur="2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34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7" dur="2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34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9" dur="2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35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1" dur="20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352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3" dur="3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3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3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3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9" dur="3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3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3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3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5" dur="3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3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3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3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1" dur="30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30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30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30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7" dur="30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30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30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30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3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3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3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3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3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1000"/>
                            </p:stCondLst>
                            <p:childTnLst>
                              <p:par>
                                <p:cTn id="4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4.91329E-006 L 0.45347 0.15977 E">
                                      <p:cBhvr>
                                        <p:cTn id="413" dur="2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4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5" dur="3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3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3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3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3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4.50867E-006 L 0.61268 0.34174 E">
                                      <p:cBhvr>
                                        <p:cTn id="426" dur="2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8" dur="3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3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3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3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Notice the proc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1219320" y="1905120"/>
            <a:ext cx="741672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tice the embedded processes- communication, reasoning, connec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C5F57-5A84-480F-834E-6AE66A30CC4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2" descr="gear"/>
          <p:cNvPicPr/>
          <p:nvPr/>
        </p:nvPicPr>
        <p:blipFill>
          <a:blip r:embed="rId1"/>
          <a:srcRect l="10754" t="22727" r="24492" b="27194"/>
          <a:stretch/>
        </p:blipFill>
        <p:spPr>
          <a:xfrm>
            <a:off x="609480" y="4343400"/>
            <a:ext cx="2144880" cy="2147760"/>
          </a:xfrm>
          <a:prstGeom prst="rect">
            <a:avLst/>
          </a:prstGeom>
          <a:ln w="0">
            <a:noFill/>
          </a:ln>
        </p:spPr>
      </p:pic>
      <p:sp>
        <p:nvSpPr>
          <p:cNvPr id="194" name="WordArt 10"/>
          <p:cNvSpPr txBox="1"/>
          <p:nvPr/>
        </p:nvSpPr>
        <p:spPr>
          <a:xfrm rot="19346400">
            <a:off x="1225440" y="5040000"/>
            <a:ext cx="895320" cy="3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Communicat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195" name="WordArt 8" descr=""/>
          <p:cNvPicPr/>
          <p:nvPr/>
        </p:nvPicPr>
        <p:blipFill>
          <a:blip r:embed="rId2"/>
          <a:stretch/>
        </p:blipFill>
        <p:spPr>
          <a:xfrm>
            <a:off x="755640" y="5479920"/>
            <a:ext cx="1085760" cy="433440"/>
          </a:xfrm>
          <a:prstGeom prst="rect">
            <a:avLst/>
          </a:prstGeom>
          <a:ln w="0">
            <a:noFill/>
          </a:ln>
        </p:spPr>
      </p:pic>
      <p:sp>
        <p:nvSpPr>
          <p:cNvPr id="196" name="WordArt 6"/>
          <p:cNvSpPr txBox="1"/>
          <p:nvPr/>
        </p:nvSpPr>
        <p:spPr>
          <a:xfrm rot="20286600">
            <a:off x="1002960" y="4485960"/>
            <a:ext cx="1655640" cy="387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Reasoning and Proving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p:transition>
    <p:fade/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2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3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3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3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Big Ideas for CAMPPP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457200" y="1905120"/>
            <a:ext cx="8686800" cy="58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fferent representations of relationships (e.g. numeric, graphic, geometric, algebraic) highlight different characteristics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ehaviours, and can serve different purpos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08BF5-D87C-46D7-B5B9-2628A6123E3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0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ich process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457200" y="1905120"/>
            <a:ext cx="868680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ch processes do you see embedded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EE1AB-D62F-42C8-83B9-9889A04E31C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2" descr="gear"/>
          <p:cNvPicPr/>
          <p:nvPr/>
        </p:nvPicPr>
        <p:blipFill>
          <a:blip r:embed="rId1"/>
          <a:srcRect l="10754" t="22727" r="24492" b="27194"/>
          <a:stretch/>
        </p:blipFill>
        <p:spPr>
          <a:xfrm>
            <a:off x="4876920" y="2895480"/>
            <a:ext cx="3057480" cy="3062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2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Big Ideas for CAMPPP #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1219320" y="1905120"/>
            <a:ext cx="741672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aring mathematical relationships helps us see that there are classes of relationships and provides insight into each member of the clas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A1515-1896-478D-AF59-37B70FE98AC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1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Big Ideas for CAMPPP #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1219320" y="1905120"/>
            <a:ext cx="7416720" cy="58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ited information about a mathematical relationship can sometimes, but not always, allow us to predict other information about that relationship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2F1B1-57D2-47FD-B04C-88F97FA3C5B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3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Getting a feel for the big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1143000" y="2666880"/>
            <a:ext cx="741672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sets of questions will be circulated which are designed to bring out the big idea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8ED99-F7BA-4A87-8B82-DF308C15D15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0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Getting a feel for the big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1143000" y="2666880"/>
            <a:ext cx="741672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oose one of those sets of questions. Match each question to the big idea it is most likely to elici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EECCF-D957-4B99-A6FB-B2CECA22EC9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0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7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ome questions about your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1143000" y="2666880"/>
            <a:ext cx="741672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ch big idea did you find easiest to match first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ch did you find hardest to match fir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D192F-3900-4E15-8125-BA0190722A2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0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Minds-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042920" y="2014560"/>
            <a:ext cx="741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61131-B1BB-419B-BC88-E1F4A53F5F3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219320" y="2362320"/>
          <a:ext cx="7391160" cy="2743200"/>
        </p:xfrm>
        <a:graphic>
          <a:graphicData uri="http://schemas.openxmlformats.org/drawingml/2006/table">
            <a:tbl>
              <a:tblPr/>
              <a:tblGrid>
                <a:gridCol w="1825560"/>
                <a:gridCol w="865080"/>
                <a:gridCol w="593640"/>
                <a:gridCol w="822600"/>
                <a:gridCol w="820440"/>
                <a:gridCol w="820800"/>
                <a:gridCol w="822600"/>
                <a:gridCol w="820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 Numb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 Val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ome questions about your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1143000" y="2666880"/>
            <a:ext cx="741672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ch of the questions did you like best? 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051C8-AB77-4437-BB3B-738133F3419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6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ome questions about your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1143000" y="2666880"/>
            <a:ext cx="7416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do the questions that matched Big Idea 1 show the notion of generaliz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B62AE-10EB-4EFA-B3A7-7C2E4C7A037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0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8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ome questions about your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1143000" y="2666880"/>
            <a:ext cx="7416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do the questions that matched Big Idea 1 show the notion of describing or analyzing relationships or chang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13A2A-DD8F-4A52-9E65-60480335150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0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0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ome questions about your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1143000" y="2666880"/>
            <a:ext cx="74167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ould the questions that matched Big Idea 2 broaden a student’s sense of what different representations mean and/or what their purpose 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E3CF4-734E-4154-8C0F-7895A8D4799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0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2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ome questions about your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1143000" y="2666880"/>
            <a:ext cx="7416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ould the question that matched Big Idea 3 broaden a student’s notion of what a “class” of relationships might b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0FF04-E3CF-4516-88AD-79782163A7B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0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4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ome questions about your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1143000" y="2666880"/>
            <a:ext cx="7416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an you think of other examples that you’ve used (with or without realizing it) to make students see that from limited information you can get mo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E45C4-C8EC-489B-9601-1BED4866208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0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6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Y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o</a:t>
            </a: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u just experienced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1066680" y="1828800"/>
            <a:ext cx="7417080" cy="46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arallel task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e will talk more about these, but these two very related tasks were adjusted to meet your needs but treated together in our consolida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C700B-16AF-4800-90B3-9858017A390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0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8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y use big idea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1066680" y="1828800"/>
            <a:ext cx="7417080" cy="54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 build connections students need in order to learn both through grades and within gr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 prioritize instructional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18EE9-8525-47BF-8A47-B7B506C28D5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0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5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y use big idea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1066680" y="1828800"/>
            <a:ext cx="741708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t helps for students to know them so that the connections they are making are more explicit and to build on prior knowledg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CCFF1-362E-4349-85D3-B1A66F8E42C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0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2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Building lesso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1066680" y="1828800"/>
            <a:ext cx="74170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 can use a big idea to hone in on an appropriate lesson goa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765CA-D548-41CF-AFD9-1BFA1C1BBE9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0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4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Minds-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1042920" y="2014560"/>
            <a:ext cx="741672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uld the 20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term be either positive or negative? Why is th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56043-1F1B-4FF5-8C57-9F6383E1DFE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or exampl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1066680" y="1828800"/>
            <a:ext cx="7417080" cy="54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sider the expectation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lve first degree equations with non-fractional coefficients using a variety of tools (e.g. 2x + 7 = 6x – 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C81C9-B6A3-4AED-8F6C-E85A754A71B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0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6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is my lesson 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1066680" y="1828800"/>
            <a:ext cx="74170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 am going to propose that it is not that “students will use a balance to solve a linear equation”, bu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51C95-EB0F-4C21-A603-EB6BC068346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0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3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is my lesson 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1066680" y="1828800"/>
            <a:ext cx="741708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ybe: recognizing that solving an equation means determining an equivalent equation where the unknown value is more obviou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8D955-4344-48D9-B956-FF9399AE4EF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0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5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I me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3"/>
          <p:cNvSpPr/>
          <p:nvPr/>
        </p:nvSpPr>
        <p:spPr>
          <a:xfrm>
            <a:off x="1066680" y="1828800"/>
            <a:ext cx="7417080" cy="55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se equations are equivalen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X =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2x – 7  =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3x + 7 = x + 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A17DD-CD43-4BB4-A4AA-1A336658938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7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2" dur="5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6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I me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838080" y="4114800"/>
            <a:ext cx="74170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se equations are equival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 =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x – 7 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x + 7 = x + 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05558-9794-4B9E-9290-67812292CFF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1523880" y="1809720"/>
            <a:ext cx="74170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t it’s sure easier to see the unknown value in one of them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500"/>
                            </p:stCondLst>
                            <p:childTnLst>
                              <p:par>
                                <p:cTn id="78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7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does this mean for consolidating the less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1066680" y="2590920"/>
            <a:ext cx="74170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 need to ask a question or two that gets RIGHT to my goa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C6F98-0D56-4357-9B51-F75301DB0B4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fill="hold">
                      <p:stCondLst>
                        <p:cond delay="0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4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does this mean for consolidating the less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1066680" y="2590920"/>
            <a:ext cx="74170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gree or disagree: The equation 5x – 4 =  17 + 3x is really the equation x = 11.5 in disguis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7BD1F-CDC5-4A2A-9823-E4F84B66B03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0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6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1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does this mean for consolidating the less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1066680" y="2590920"/>
            <a:ext cx="7417080" cy="55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ch equation would you find easier to solve? Why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5x – 4 =  17 + 3x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x = 11.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0E42B-0E74-4F1F-8F03-A4D3F4A2621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0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8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8" dur="5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3" dur="50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does this mean for consolidating the less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1066680" y="2590920"/>
            <a:ext cx="7417080" cy="54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might someone say that solving an equation is about finding what easier equation is being disguis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9CAA0-16F0-4397-91B9-3FE828FB407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fill="hold">
                      <p:stCondLst>
                        <p:cond delay="0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0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5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One mor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1066680" y="1981080"/>
            <a:ext cx="7417080" cy="58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curriculum expectation reads: construct tables of values and graphs using a variety of tools to represent linear relations derived from descriptions of realistic situa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96E04-B826-4707-ACDE-45BE6214E59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fill="hold">
                      <p:stCondLst>
                        <p:cond delay="0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2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7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Characteristics of Minds-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1066680" y="2895480"/>
            <a:ext cx="741708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does this minds-on engage student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is it op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C3BDF-9EBF-4591-9586-F2649C97CB5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My goal today might b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1066680" y="1981080"/>
            <a:ext cx="741708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t is useful to write the table of values where the independent variable increases in a consistent way, but you don’t have t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67F27-9651-4F4A-A40F-B6B51AC76DE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0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4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9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o I could ask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1066680" y="1981080"/>
            <a:ext cx="741708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ere are two tables of values. You want to find out if they represent linear relationships. Which table makes it easier to tel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6040D-34AA-40C9-8AD1-F3C22973947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fill="hold">
                      <p:stCondLst>
                        <p:cond delay="0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6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1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38E21-D834-49E1-9471-ACED9360CBA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447920" y="914400"/>
          <a:ext cx="1930320" cy="6019920"/>
        </p:xfrm>
        <a:graphic>
          <a:graphicData uri="http://schemas.openxmlformats.org/drawingml/2006/table">
            <a:tbl>
              <a:tblPr/>
              <a:tblGrid>
                <a:gridCol w="965160"/>
                <a:gridCol w="965160"/>
              </a:tblGrid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8" name=""/>
          <p:cNvGraphicFramePr/>
          <p:nvPr/>
        </p:nvGraphicFramePr>
        <p:xfrm>
          <a:off x="5257800" y="838080"/>
          <a:ext cx="1930320" cy="6019920"/>
        </p:xfrm>
        <a:graphic>
          <a:graphicData uri="http://schemas.openxmlformats.org/drawingml/2006/table">
            <a:tbl>
              <a:tblPr/>
              <a:tblGrid>
                <a:gridCol w="965160"/>
                <a:gridCol w="965160"/>
              </a:tblGrid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a</a:t>
            </a: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nd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1066680" y="1981080"/>
            <a:ext cx="741708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uld you use the other table too, if you wanted t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147B8-3F1E-48A1-BB96-345C11BBFF1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0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8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3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Or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1066680" y="1981080"/>
            <a:ext cx="741708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y goal could have been, instead, to ask students to consider how a graphical representation of that same relationship gives other insights into i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DDCB3-0F5F-4803-A07B-8FB3E51D038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94" dur="indefinite" restart="never" nodeType="tmRoot">
          <p:childTnLst>
            <p:seq>
              <p:cTn id="895" dur="indefinite" nodeType="mainSeq">
                <p:childTnLst>
                  <p:par>
                    <p:cTn id="896" fill="hold">
                      <p:stCondLst>
                        <p:cond delay="0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0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5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Consoli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1066680" y="1981080"/>
            <a:ext cx="741708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B73E3-D114-4745-BE06-61EF8307556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3"/>
          <p:cNvSpPr/>
          <p:nvPr/>
        </p:nvSpPr>
        <p:spPr>
          <a:xfrm>
            <a:off x="1066680" y="1981080"/>
            <a:ext cx="74170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ink/pair/shar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the difference between an expectation and a big idea? 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’s so big about big idea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fill="hold">
                      <p:stCondLst>
                        <p:cond delay="0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2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7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2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7" dur="50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2" dur="500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The Important 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1066680" y="1981080"/>
            <a:ext cx="7417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 would like to introduce you to Margaret Wise Brown’s The Important Book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04ADD-7D2E-46FC-85D6-C5BADFA53BE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9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4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A Sample p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523B3-6FF2-4602-80B5-995C7421360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4" descr="Picture 1.png"/>
          <p:cNvPicPr/>
          <p:nvPr/>
        </p:nvPicPr>
        <p:blipFill>
          <a:blip r:embed="rId1"/>
          <a:stretch/>
        </p:blipFill>
        <p:spPr>
          <a:xfrm>
            <a:off x="1415880" y="190440"/>
            <a:ext cx="6312240" cy="6477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fill="hold">
                      <p:stCondLst>
                        <p:cond delay="0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1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e wi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3"/>
          <p:cNvSpPr/>
          <p:nvPr/>
        </p:nvSpPr>
        <p:spPr>
          <a:xfrm>
            <a:off x="1066680" y="1981080"/>
            <a:ext cx="741708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D56B1-3292-4894-A753-8B05B3579B9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1066680" y="1981080"/>
            <a:ext cx="7417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 this book throughout the week as a way for you to consolidate what you explore in our CAMPPP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52" dur="indefinite" restart="never" nodeType="tmRoot">
          <p:childTnLst>
            <p:seq>
              <p:cTn id="953" dur="indefinite" nodeType="mainSeq">
                <p:childTnLst>
                  <p:par>
                    <p:cTn id="954" fill="hold">
                      <p:stCondLst>
                        <p:cond delay="0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8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3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8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Characteristics of Minds-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066680" y="2895480"/>
            <a:ext cx="741708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was the important underlying ide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72C3C-F244-4945-9F3F-0FE8EFEEBB1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Characteristics of Minds-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1066680" y="2895480"/>
            <a:ext cx="74170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ould OR how would this question force students to deal with that underlying ide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B3F47-8F13-4B48-9408-27CD7D9AB54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ould the student be able to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 respond to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1066680" y="2895480"/>
            <a:ext cx="74170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makes a pattern linear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re are a lot of linear patterns that include the same term becaus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56BEC-962A-4161-8239-55D7037AD47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7T00:47:12Z</dcterms:created>
  <dc:creator>PSteele</dc:creator>
  <dc:description/>
  <dc:language>en-US</dc:language>
  <cp:lastModifiedBy>Rod_Anne_Yeager</cp:lastModifiedBy>
  <dcterms:modified xsi:type="dcterms:W3CDTF">2009-07-17T13:40:14Z</dcterms:modified>
  <cp:revision>104</cp:revision>
  <dc:subject/>
  <dc:title>Slide 1</dc:title>
</cp:coreProperties>
</file>